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E28-8AF2-415D-992C-7029B996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49E-DB5F-4D6A-8DE8-16FF99EA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89F-E9AF-408D-BB35-3B8A605B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0B8-BC8B-4675-B877-EDB97C5D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7A93-F735-4E64-A4A4-D2DF141A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470B-96CC-4EAD-B95D-DB1CFB6E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4D5D-F71B-47BF-95C6-4A461548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2238-7960-4DBC-8E50-6285C475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416B-2838-4ACF-B1AA-3D431427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B1B2-20A0-4B30-A9A4-30CDE914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02AC-6A4D-4EED-8264-7976565F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4D6-4F65-4CD6-B028-BBD8031E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6C5A-4FBD-4184-844A-815482E5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7FF7-2176-41A2-9610-B3C3095C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C554-0C91-4A8C-8DC1-2CA0A13F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4BF1-7E86-48DC-87E6-4A1E112C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DD48-162F-437C-A080-AD78332D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D9B-1947-4D27-B9B5-17890A62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8F4-2167-4586-A144-E233D2F5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25A-5174-47CE-836C-0D64D2B6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D6C-0D13-4A91-B912-CF485FBC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687-B5C9-429B-9007-34C00F0B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9CC5-BBF4-4FF8-921A-D02D9C8E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389-7054-4A33-AC0C-98A6FBB8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4ED3-706A-4C4F-8233-A5C8E6F182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6B81-B0AE-45C3-A51D-61ED31AF0CB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8 класс: Теорема Пифагор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9 класс: Теорема синусов. Теорема                       косинус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3933720"/>
            <a:ext cx="6840360" cy="24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Умение решать задачи – такое же практическое искусство. Ему можно научиться только путем подражания или упражн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. Пой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16000" y="2637000"/>
          <a:ext cx="6000840" cy="2844720"/>
        </p:xfrm>
        <a:graphic>
          <a:graphicData uri="http://schemas.openxmlformats.org/drawingml/2006/table">
            <a:tbl>
              <a:tblPr/>
              <a:tblGrid>
                <a:gridCol w="1000080"/>
                <a:gridCol w="1000440"/>
                <a:gridCol w="1000080"/>
                <a:gridCol w="1000080"/>
                <a:gridCol w="1000080"/>
                <a:gridCol w="1000080"/>
              </a:tblGrid>
              <a:tr h="14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ебудет вечной истина, как скор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е познает слабый человек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ыне теорема Пифаго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ерна, как и в его далекий в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спорилось нужное дело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в жизни не знать неудач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ы на поиск отправимся смело –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мир загадок и сложных задач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беда, что идти далеко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е бойтесь, что путь будет труден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остижения крупные людям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икогда не давались легко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5899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Геометрия владеет двумя сокровищами: одно из них – теорема Пифагора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…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                                           И. Кепле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res06F9589B-85BB-44D7-BF57-4F19C71ABAD9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816200" cy="235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332000" y="333360"/>
            <a:ext cx="49435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теты прямоугольного треугольника равны 3 см и 4 см. Верно ли, что гипотенуза этого треугольника равн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) 7 см;         б) 5 см             в) 25 см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4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дин из катетов прямоугольного треугольника равен 8 см, а гипотенуза – 10 см. Верно ли, что второй катет этого треугольника равен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2 см;         б) 6 см         в) 10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ве стороны треугольника равны 10 см и 5 см. Какой должна быть третья сторона треугольника, чтобы  он был прямоугольным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15 см;     б) 125 см;     в) 5√5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6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ой из треугольников является прямоугольным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Со сторонами: 2 см; 4 см; 2√3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) Со сторонами: 6 см; 8 см; 14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) Со сторонами: 5 см; 4 см; 20 см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28:52Z</dcterms:created>
  <dc:creator>Мелкомуковы</dc:creator>
  <dc:description/>
  <dc:language>en-US</dc:language>
  <cp:lastModifiedBy>*****</cp:lastModifiedBy>
  <dcterms:modified xsi:type="dcterms:W3CDTF">2012-12-27T04:28:12Z</dcterms:modified>
  <cp:revision>5</cp:revision>
  <dc:subject/>
  <dc:title>8 класс: Теорема Пифагора 9 класс: Решение треугольников</dc:title>
</cp:coreProperties>
</file>